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186-F162-4BF3-ACB2-AA30A030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081-641A-4B41-A0ED-8F838212460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607-D8CD-433B-8824-D91C2A1986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470D-A44C-40F9-84CC-9B9C14485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1CDE-D0F7-40BF-85E2-3CBA6BD0B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997E-1E7D-4746-93EE-CC96C039D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9119-2286-4F2E-AD66-F00DD1DA4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9F47-4A3F-4065-A78D-7E7764E6A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CCBB-388F-4D44-BC06-CD2CE1985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3F1F-D455-405D-A576-75667E421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08C6-828D-4E1B-99F9-DC00C49D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598E-0A2E-42EB-8075-64702D32E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3FE9-D0D8-4228-B7C3-F8ECBC323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B0C2-0800-4813-B95C-3E58A188F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D921-EC39-46D6-ACB4-023FADA36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43B-F279-4BA9-9D2F-DD8682E6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2C83-858D-4124-BED0-5C282DC3F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5840" y="609120"/>
            <a:ext cx="7313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434340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2133720"/>
            <a:ext cx="7313760" cy="14475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omputing Variab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19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F79-9324-463B-A704-98AF14ED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10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09480" y="2286000"/>
            <a:ext cx="5027760" cy="295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867280" y="222264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ign a value to the variable, you must type the variable name in the box labeled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685800" y="25909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13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EBF-D9BD-414A-8C5F-9F9CA790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2" descr="C:\Instructional Technology\BCT689\PowerPoint\spss gifs\compute\ancova dummy vars\fdummy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867280" y="4267080"/>
            <a:ext cx="2895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o se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o zero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867280" y="2209680"/>
            <a:ext cx="28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 can’t type in this tutorial, so the  name of the  new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3187800" y="3962520"/>
            <a:ext cx="3808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AutoShape 12">
            <a:hlinkClick r:id="" action="ppaction://hlinkshowjump?jump=nextslide"/>
          </p:cNvPr>
          <p:cNvSpPr/>
          <p:nvPr/>
        </p:nvSpPr>
        <p:spPr>
          <a:xfrm>
            <a:off x="3198960" y="395748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D8F-DE5E-4008-B642-BBA3999C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6" descr="C:\Instructional Technology\BCT689\PowerPoint\spss gifs\compute\ancova dummy vars\fdummy2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nextslide"/>
          </p:cNvPr>
          <p:cNvSpPr/>
          <p:nvPr/>
        </p:nvSpPr>
        <p:spPr>
          <a:xfrm>
            <a:off x="2362320" y="48006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867280" y="2108160"/>
            <a:ext cx="312444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he zero appears in the box labeled </a:t>
            </a:r>
            <a:br>
              <a:rPr sz="26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resulting in the formula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 = 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button to complete the transformation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ADA7-D5A9-4F1D-9A77-F96245F1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14400" y="25146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eceding steps added the variable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dumm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data file and assigned a value of zero (0) to all cases (record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, the value of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dumm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be changed to one (1) for all females in the datas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A635-36E9-4ED3-BE82-94674F10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2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lue for an existing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BF4-1B8C-42FA-A54F-142D2EFB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2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6A11-26AB-4E5B-ABB4-6DCE7F4B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2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ED9-AA71-4303-9D38-0A1D3635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5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09480" y="2286000"/>
            <a:ext cx="5027760" cy="2954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pecifying the Target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867280" y="2235240"/>
            <a:ext cx="28958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 SPSS, you would type the variable name in the box labeled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but that doesn’t work in this tutorial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nextslide"/>
          </p:cNvPr>
          <p:cNvSpPr/>
          <p:nvPr/>
        </p:nvSpPr>
        <p:spPr>
          <a:xfrm>
            <a:off x="685800" y="266688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7924680" y="588024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3823-5CFE-4142-9CC5-92CF3D99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2" descr="C:\Instructional Technology\BCT689\PowerPoint\spss gifs\compute\ancova dummy vars\fdummy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pecifying the Target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2336760" y="444492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850000" y="3962520"/>
            <a:ext cx="291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hange  the value of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selected cases, click th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If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50000" y="2133720"/>
            <a:ext cx="306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is graphic, the name of the target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2349360" y="441972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7086-1DCC-42EC-88EA-9EBFA5B6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6" descr="C:\Instructional Technology\BCT689\PowerPoint\spss gifs\compute\ancova dummy vars\if1.gif"/>
          <p:cNvPicPr/>
          <p:nvPr/>
        </p:nvPicPr>
        <p:blipFill>
          <a:blip r:embed="rId1"/>
          <a:stretch/>
        </p:blipFill>
        <p:spPr>
          <a:xfrm>
            <a:off x="3606840" y="2362320"/>
            <a:ext cx="5027400" cy="2832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5423040" y="2832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1280" y="2435400"/>
            <a:ext cx="2895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selection criteria, click the button labeled</a:t>
            </a:r>
            <a:br>
              <a:rPr sz="2800"/>
            </a:b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Include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 case satisfies condition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CB36-B463-4292-BF78-4BECA7CC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AutoShape 43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609480" y="3505320"/>
            <a:ext cx="7925040" cy="106884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omputes values for a variable based on numeric transformations of other variables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609480" y="21337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rding to SPSS Help, the Compute Variable comma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8FC3-28C0-4EE4-98FD-6C7E1ED0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6" descr="C:\Instructional Technology\BCT689\PowerPoint\spss gifs\compute\ancova dummy vars\if2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3733920" y="3467160"/>
            <a:ext cx="1066680" cy="266760"/>
          </a:xfrm>
          <a:custGeom>
            <a:avLst/>
            <a:gdLst>
              <a:gd name="textAreaLeft" fmla="*/ 17280 w 1066680"/>
              <a:gd name="textAreaRight" fmla="*/ 1049400 w 10666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86284" h="21600">
                <a:moveTo>
                  <a:pt x="0" y="0"/>
                </a:moveTo>
                <a:lnTo>
                  <a:pt x="86284" y="0"/>
                </a:lnTo>
                <a:lnTo>
                  <a:pt x="86284" y="21600"/>
                </a:lnTo>
                <a:lnTo>
                  <a:pt x="0" y="21600"/>
                </a:lnTo>
                <a:close/>
              </a:path>
              <a:path fill="lightenLess" w="86284" h="21600">
                <a:moveTo>
                  <a:pt x="0" y="0"/>
                </a:moveTo>
                <a:lnTo>
                  <a:pt x="86284" y="0"/>
                </a:lnTo>
                <a:lnTo>
                  <a:pt x="84884" y="1400"/>
                </a:lnTo>
                <a:lnTo>
                  <a:pt x="1400" y="1400"/>
                </a:lnTo>
                <a:close/>
              </a:path>
              <a:path fill="darken" w="86284" h="21600">
                <a:moveTo>
                  <a:pt x="86284" y="0"/>
                </a:moveTo>
                <a:lnTo>
                  <a:pt x="86284" y="21600"/>
                </a:lnTo>
                <a:lnTo>
                  <a:pt x="84884" y="20200"/>
                </a:lnTo>
                <a:lnTo>
                  <a:pt x="84884" y="1400"/>
                </a:lnTo>
                <a:close/>
              </a:path>
              <a:path fill="darkenLess" w="86284" h="21600">
                <a:moveTo>
                  <a:pt x="86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84" y="20200"/>
                </a:lnTo>
                <a:close/>
              </a:path>
              <a:path fill="lighten" w="86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2192400"/>
            <a:ext cx="2895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selection criteria to gender = 1 (female),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Stud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[gender]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variable li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D448-469E-4E47-9BC7-B0F75F938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6" descr="C:\Instructional Technology\BCT689\PowerPoint\spss gifs\compute\ancova dummy vars\if3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0" name="AutoShape 3">
            <a:hlinkClick r:id="" action="ppaction://hlinkshowjump?jump=nextslide"/>
          </p:cNvPr>
          <p:cNvSpPr/>
          <p:nvPr/>
        </p:nvSpPr>
        <p:spPr>
          <a:xfrm>
            <a:off x="5029200" y="304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EFC0-E6EA-438E-9C82-D0A0B3DD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6" descr="C:\Instructional Technology\BCT689\PowerPoint\spss gifs\compute\ancova dummy vars\if4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09480" y="36561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button with the equal sign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5626080" y="402732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14">
            <a:hlinkClick r:id="" action="ppaction://hlinkshowjump?jump=nextslide"/>
          </p:cNvPr>
          <p:cNvSpPr/>
          <p:nvPr/>
        </p:nvSpPr>
        <p:spPr>
          <a:xfrm>
            <a:off x="5638680" y="4038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287-C0A9-450D-B955-EEE9079E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2" name="Picture 10" descr="C:\Instructional Technology\BCT689\PowerPoint\spss gifs\compute\ancova dummy vars\if5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4" name="AutoShape 4">
            <a:hlinkClick r:id="" action="ppaction://hlinkshowjump?jump=nextslide"/>
          </p:cNvPr>
          <p:cNvSpPr/>
          <p:nvPr/>
        </p:nvSpPr>
        <p:spPr>
          <a:xfrm>
            <a:off x="6121440" y="4089240"/>
            <a:ext cx="241200" cy="216000"/>
          </a:xfrm>
          <a:custGeom>
            <a:avLst/>
            <a:gdLst>
              <a:gd name="textAreaLeft" fmla="*/ 13680 w 241200"/>
              <a:gd name="textAreaRight" fmla="*/ 227520 w 241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4116" h="21600">
                <a:moveTo>
                  <a:pt x="0" y="0"/>
                </a:moveTo>
                <a:lnTo>
                  <a:pt x="24116" y="0"/>
                </a:lnTo>
                <a:lnTo>
                  <a:pt x="24116" y="21600"/>
                </a:lnTo>
                <a:lnTo>
                  <a:pt x="0" y="21600"/>
                </a:lnTo>
                <a:close/>
              </a:path>
              <a:path fill="lightenLess" w="24116" h="21600">
                <a:moveTo>
                  <a:pt x="0" y="0"/>
                </a:moveTo>
                <a:lnTo>
                  <a:pt x="24116" y="0"/>
                </a:lnTo>
                <a:lnTo>
                  <a:pt x="22716" y="1400"/>
                </a:lnTo>
                <a:lnTo>
                  <a:pt x="1400" y="1400"/>
                </a:lnTo>
                <a:close/>
              </a:path>
              <a:path fill="darken" w="24116" h="21600">
                <a:moveTo>
                  <a:pt x="24116" y="0"/>
                </a:moveTo>
                <a:lnTo>
                  <a:pt x="24116" y="21600"/>
                </a:lnTo>
                <a:lnTo>
                  <a:pt x="22716" y="20200"/>
                </a:lnTo>
                <a:lnTo>
                  <a:pt x="22716" y="1400"/>
                </a:lnTo>
                <a:close/>
              </a:path>
              <a:path fill="darkenLess" w="24116" h="21600">
                <a:moveTo>
                  <a:pt x="24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6" y="20200"/>
                </a:lnTo>
                <a:close/>
              </a:path>
              <a:path fill="lighten" w="24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09480" y="365616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button with the equal sign, then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(value for female in the file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A3F-97DF-4DE3-A7D4-B422A8B8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C:\Instructional Technology\BCT689\PowerPoint\spss gifs\compute\ancova dummy vars\fgpaif6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1" name="AutoShape 4">
            <a:hlinkClick r:id="" action="ppaction://hlinkshowjump?jump=nextslide"/>
          </p:cNvPr>
          <p:cNvSpPr/>
          <p:nvPr/>
        </p:nvSpPr>
        <p:spPr>
          <a:xfrm>
            <a:off x="5334120" y="48006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11280" y="24382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ues will be changed only i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381-00E9-4D23-B278-40AC79F9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Picture 6" descr="C:\Instructional Technology\BCT689\PowerPoint\spss gifs\compute\ancova dummy vars\fdummy3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867280" y="237636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ndition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displayed next to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f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362320" y="4495680"/>
            <a:ext cx="1066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AutoShape 1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7E86-03CC-4DBD-8672-19B6C213E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Picture 2" descr="C:\Instructional Technology\BCT689\PowerPoint\spss gifs\compute\ancova dummy vars\fdummy3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5" name="AutoShape 4">
            <a:hlinkClick r:id="" action="ppaction://hlinkshowjump?jump=nextslide"/>
          </p:cNvPr>
          <p:cNvSpPr/>
          <p:nvPr/>
        </p:nvSpPr>
        <p:spPr>
          <a:xfrm>
            <a:off x="3162240" y="3809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867280" y="2376360"/>
            <a:ext cx="281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 =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84CA-0EC1-4C89-B43E-C828E6265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Picture 6" descr="C:\Instructional Technology\BCT689\PowerPoint\spss gifs\compute\ancova dummy vars\fdummy5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1" name="AutoShape 4">
            <a:hlinkClick r:id="" action="ppaction://hlinkshowjump?jump=nextslide"/>
          </p:cNvPr>
          <p:cNvSpPr/>
          <p:nvPr/>
        </p:nvSpPr>
        <p:spPr>
          <a:xfrm>
            <a:off x="2362320" y="4838760"/>
            <a:ext cx="533160" cy="266760"/>
          </a:xfrm>
          <a:custGeom>
            <a:avLst/>
            <a:gdLst>
              <a:gd name="textAreaLeft" fmla="*/ 17280 w 533160"/>
              <a:gd name="textAreaRight" fmla="*/ 515880 w 53316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43142" h="21600">
                <a:moveTo>
                  <a:pt x="0" y="0"/>
                </a:moveTo>
                <a:lnTo>
                  <a:pt x="43142" y="0"/>
                </a:lnTo>
                <a:lnTo>
                  <a:pt x="43142" y="21600"/>
                </a:lnTo>
                <a:lnTo>
                  <a:pt x="0" y="21600"/>
                </a:lnTo>
                <a:close/>
              </a:path>
              <a:path fill="lightenLess" w="43142" h="21600">
                <a:moveTo>
                  <a:pt x="0" y="0"/>
                </a:moveTo>
                <a:lnTo>
                  <a:pt x="43142" y="0"/>
                </a:lnTo>
                <a:lnTo>
                  <a:pt x="41742" y="1400"/>
                </a:lnTo>
                <a:lnTo>
                  <a:pt x="1400" y="1400"/>
                </a:lnTo>
                <a:close/>
              </a:path>
              <a:path fill="darken" w="43142" h="21600">
                <a:moveTo>
                  <a:pt x="43142" y="0"/>
                </a:moveTo>
                <a:lnTo>
                  <a:pt x="43142" y="21600"/>
                </a:lnTo>
                <a:lnTo>
                  <a:pt x="41742" y="20200"/>
                </a:lnTo>
                <a:lnTo>
                  <a:pt x="41742" y="1400"/>
                </a:lnTo>
                <a:close/>
              </a:path>
              <a:path fill="darkenLess" w="43142" h="21600">
                <a:moveTo>
                  <a:pt x="43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2" y="20200"/>
                </a:lnTo>
                <a:close/>
              </a:path>
              <a:path fill="lighten" w="43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867280" y="2376360"/>
            <a:ext cx="312444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ppears in the box labeled </a:t>
            </a:r>
            <a:br>
              <a:rPr sz="28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complete the transform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2AC-433D-429D-A1C5-1F50106B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Picture 6" descr="C:\Instructional Technology\BCT689\PowerPoint\spss gifs\compute\ancova dummy vars\fdummy6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8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1905120" y="3962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67280" y="2376360"/>
            <a:ext cx="3124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dialog box warns tha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ll be chang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permit the chan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D6B-2035-4B8B-A47E-72C5D8229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Us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09480" y="2286000"/>
            <a:ext cx="7998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eceding step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ed the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data file and assigned a value of zero (0) to all cas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d the value of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one (1) for all females in the datas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7276-8095-4245-92AF-6BC9DE15D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09480" y="3198960"/>
            <a:ext cx="7998120" cy="210024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ompute values for numeric or string (alphanumeric)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reate new variables or replace the values of existing variables. For new variables, you can also specify the variable type and lab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09480" y="2057400"/>
            <a:ext cx="79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ording to SPSS Help, using the Compute Variable comman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02C-7AF9-4BD4-B3A8-541AD690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Us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143000" y="2286000"/>
            <a:ext cx="6858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we will use the new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the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otal cumulative undergraduate gpa) to create another new (dummy) variable,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by multiplying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436-3407-4377-BA0D-CE664685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2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AutoShape 5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48A-3FDA-4FD3-9E87-008C6CC57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Picture 2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654-2EDF-42AD-849B-3AD509EC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2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AutoShape 4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094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63E-3560-46C2-B1F8-565D0C1B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5" name="Picture 5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867280" y="213372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ign a value to the variable, you must type the variable name in the box labeled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AutoShape 4">
            <a:hlinkClick r:id="" action="ppaction://hlinkshowjump?jump=nextslide"/>
          </p:cNvPr>
          <p:cNvSpPr/>
          <p:nvPr/>
        </p:nvSpPr>
        <p:spPr>
          <a:xfrm>
            <a:off x="685800" y="25146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AutoShape 7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AutoShape 8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658-EB0B-4D25-82FE-7B105713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867280" y="214776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is graphic, the name of the new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8" name="Picture 7" descr="C:\Instructional Technology\BCT689\PowerPoint\spss gifs\compute\ancova dummy vars\fgpa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9"/>
          <p:cNvSpPr/>
          <p:nvPr/>
        </p:nvSpPr>
        <p:spPr>
          <a:xfrm>
            <a:off x="5867280" y="40384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ill be calculated by multiplying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y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3FB-87EB-4886-864C-596EC202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6" descr="C:\Instructional Technology\BCT689\PowerPoint\spss gifs\compute\ancova dummy vars\fgpa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943600" y="251460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 to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, TOTAL-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AutoShape 4">
            <a:hlinkClick r:id="" action="ppaction://hlinkshowjump?jump=nextslide"/>
          </p:cNvPr>
          <p:cNvSpPr/>
          <p:nvPr/>
        </p:nvSpPr>
        <p:spPr>
          <a:xfrm>
            <a:off x="1752480" y="3200400"/>
            <a:ext cx="304920" cy="19051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1905120"/>
              <a:gd name="textAreaBottom" fmla="*/ 1885680 h 1905120"/>
            </a:gdLst>
            <a:ahLst/>
            <a:rect l="textAreaLeft" t="textAreaTop" r="textAreaRight" b="textAreaBottom"/>
            <a:pathLst>
              <a:path w="21600" h="134822">
                <a:moveTo>
                  <a:pt x="0" y="0"/>
                </a:moveTo>
                <a:lnTo>
                  <a:pt x="21600" y="0"/>
                </a:lnTo>
                <a:lnTo>
                  <a:pt x="21600" y="134822"/>
                </a:lnTo>
                <a:lnTo>
                  <a:pt x="0" y="134822"/>
                </a:lnTo>
                <a:close/>
              </a:path>
              <a:path fill="lightenLess" w="21600" h="1348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4822">
                <a:moveTo>
                  <a:pt x="21600" y="0"/>
                </a:moveTo>
                <a:lnTo>
                  <a:pt x="21600" y="134822"/>
                </a:lnTo>
                <a:lnTo>
                  <a:pt x="20200" y="133422"/>
                </a:lnTo>
                <a:lnTo>
                  <a:pt x="20200" y="1400"/>
                </a:lnTo>
                <a:close/>
              </a:path>
              <a:path fill="darkenLess" w="21600" h="134822">
                <a:moveTo>
                  <a:pt x="21600" y="134822"/>
                </a:moveTo>
                <a:lnTo>
                  <a:pt x="0" y="134822"/>
                </a:lnTo>
                <a:lnTo>
                  <a:pt x="1400" y="133422"/>
                </a:lnTo>
                <a:lnTo>
                  <a:pt x="20200" y="133422"/>
                </a:lnTo>
                <a:close/>
              </a:path>
              <a:path fill="lighten" w="21600" h="134822">
                <a:moveTo>
                  <a:pt x="0" y="13482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34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7C51-D1D5-4CE7-A0D6-0938734D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7" descr="C:\Instructional Technology\BCT689\PowerPoint\spss gifs\compute\ancova dummy vars\dfgpa1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0" name="AutoShape 4">
            <a:hlinkClick r:id="" action="ppaction://hlinkshowjump?jump=nextslide"/>
          </p:cNvPr>
          <p:cNvSpPr/>
          <p:nvPr/>
        </p:nvSpPr>
        <p:spPr>
          <a:xfrm>
            <a:off x="685800" y="391176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6400800" y="50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943600" y="249696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 to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, TOTAL-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AE7-F693-46BF-8E1A-1466E5BF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7" descr="C:\Instructional Technology\BCT689\PowerPoint\spss gifs\compute\ancova dummy vars\dfgpa1b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7" name="AutoShape 4">
            <a:hlinkClick r:id="" action="ppaction://hlinkshowjump?jump=nextslide"/>
          </p:cNvPr>
          <p:cNvSpPr/>
          <p:nvPr/>
        </p:nvSpPr>
        <p:spPr>
          <a:xfrm>
            <a:off x="1981080" y="3124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791320" y="2513160"/>
            <a:ext cx="30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0ED7-E3B8-48C4-B262-D026BE2C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1" name="Picture 6" descr="C:\Instructional Technology\BCT689\PowerPoint\spss gifs\compute\ancova dummy vars\dfgpa2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23" name="AutoShape 4">
            <a:hlinkClick r:id="" action="ppaction://hlinkshowjump?jump=nextslide"/>
          </p:cNvPr>
          <p:cNvSpPr/>
          <p:nvPr/>
        </p:nvSpPr>
        <p:spPr>
          <a:xfrm>
            <a:off x="2362320" y="3733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5940360" y="25131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2349360" y="370836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DF2-31CC-46C1-A864-1F9BD2C4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09480" y="3198960"/>
            <a:ext cx="7925040" cy="21132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ompute values selectively for subsets of data based on logical condi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use over 70 built-in functions, including arithmetic functions, statistical functions, distribution functions, and string func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2057400"/>
            <a:ext cx="79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ording to SPSS Help, using the Compute Variable comman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0428-983C-4100-BCBA-D1C9179D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Picture 7" descr="C:\Instructional Technology\BCT689\PowerPoint\spss gifs\compute\ancova dummy vars\dfgpa3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0" name="AutoShape 4">
            <a:hlinkClick r:id="" action="ppaction://hlinkshowjump?jump=nextslide"/>
          </p:cNvPr>
          <p:cNvSpPr/>
          <p:nvPr/>
        </p:nvSpPr>
        <p:spPr>
          <a:xfrm>
            <a:off x="1828800" y="3200400"/>
            <a:ext cx="228600" cy="19051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905120"/>
              <a:gd name="textAreaBottom" fmla="*/ 1890360 h 1905120"/>
            </a:gdLst>
            <a:ahLst/>
            <a:rect l="textAreaLeft" t="textAreaTop" r="textAreaRight" b="textAreaBottom"/>
            <a:pathLst>
              <a:path w="21600" h="179762">
                <a:moveTo>
                  <a:pt x="0" y="0"/>
                </a:moveTo>
                <a:lnTo>
                  <a:pt x="21600" y="0"/>
                </a:lnTo>
                <a:lnTo>
                  <a:pt x="21600" y="179762"/>
                </a:lnTo>
                <a:lnTo>
                  <a:pt x="0" y="179762"/>
                </a:lnTo>
                <a:close/>
              </a:path>
              <a:path fill="lightenLess" w="21600" h="179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9762">
                <a:moveTo>
                  <a:pt x="21600" y="0"/>
                </a:moveTo>
                <a:lnTo>
                  <a:pt x="21600" y="179762"/>
                </a:lnTo>
                <a:lnTo>
                  <a:pt x="20200" y="178362"/>
                </a:lnTo>
                <a:lnTo>
                  <a:pt x="20200" y="1400"/>
                </a:lnTo>
                <a:close/>
              </a:path>
              <a:path fill="darkenLess" w="21600" h="179762">
                <a:moveTo>
                  <a:pt x="21600" y="179762"/>
                </a:moveTo>
                <a:lnTo>
                  <a:pt x="0" y="179762"/>
                </a:lnTo>
                <a:lnTo>
                  <a:pt x="1400" y="178362"/>
                </a:lnTo>
                <a:lnTo>
                  <a:pt x="20200" y="178362"/>
                </a:lnTo>
                <a:close/>
              </a:path>
              <a:path fill="lighten" w="21600" h="179762">
                <a:moveTo>
                  <a:pt x="0" y="179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1783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5940360" y="2513160"/>
            <a:ext cx="30481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scroll down the variable lis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4CD-009B-4580-84FA-A9B1CE962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4" name="Picture 6" descr="C:\Instructional Technology\BCT689\PowerPoint\spss gifs\compute\ancova dummy vars\dfgpa4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6" name="AutoShape 4">
            <a:hlinkClick r:id="" action="ppaction://hlinkshowjump?jump=nextslide"/>
          </p:cNvPr>
          <p:cNvSpPr/>
          <p:nvPr/>
        </p:nvSpPr>
        <p:spPr>
          <a:xfrm>
            <a:off x="736560" y="4572000"/>
            <a:ext cx="1295280" cy="228600"/>
          </a:xfrm>
          <a:custGeom>
            <a:avLst/>
            <a:gdLst>
              <a:gd name="textAreaLeft" fmla="*/ 14760 w 1295280"/>
              <a:gd name="textAreaRight" fmla="*/ 1280520 w 12952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30" h="21600">
                <a:moveTo>
                  <a:pt x="0" y="0"/>
                </a:moveTo>
                <a:lnTo>
                  <a:pt x="122230" y="0"/>
                </a:lnTo>
                <a:lnTo>
                  <a:pt x="122230" y="21600"/>
                </a:lnTo>
                <a:lnTo>
                  <a:pt x="0" y="21600"/>
                </a:lnTo>
                <a:close/>
              </a:path>
              <a:path fill="lightenLess" w="122230" h="21600">
                <a:moveTo>
                  <a:pt x="0" y="0"/>
                </a:moveTo>
                <a:lnTo>
                  <a:pt x="122230" y="0"/>
                </a:lnTo>
                <a:lnTo>
                  <a:pt x="120830" y="1400"/>
                </a:lnTo>
                <a:lnTo>
                  <a:pt x="1400" y="1400"/>
                </a:lnTo>
                <a:close/>
              </a:path>
              <a:path fill="darken" w="122230" h="21600">
                <a:moveTo>
                  <a:pt x="122230" y="0"/>
                </a:moveTo>
                <a:lnTo>
                  <a:pt x="122230" y="21600"/>
                </a:lnTo>
                <a:lnTo>
                  <a:pt x="120830" y="20200"/>
                </a:lnTo>
                <a:lnTo>
                  <a:pt x="120830" y="1400"/>
                </a:lnTo>
                <a:close/>
              </a:path>
              <a:path fill="darkenLess" w="122230" h="21600">
                <a:moveTo>
                  <a:pt x="1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30" y="20200"/>
                </a:lnTo>
                <a:close/>
              </a:path>
              <a:path fill="lighten" w="1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940360" y="2513160"/>
            <a:ext cx="30481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scroll down the variable lis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400800" y="4876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3A99-39A0-4401-BF76-4D5A64F7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C:\Instructional Technology\BCT689\PowerPoint\spss gifs\compute\ancova dummy vars\dfgpa5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2031840" y="318780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940360" y="251316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D39-D61C-4CD5-84F0-E11988AD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6" descr="C:\Instructional Technology\BCT689\PowerPoint\spss gifs\compute\ancova dummy vars\dfgpa6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9" name="AutoShape 4">
            <a:hlinkClick r:id="" action="ppaction://hlinkshowjump?jump=nextslide"/>
          </p:cNvPr>
          <p:cNvSpPr/>
          <p:nvPr/>
        </p:nvSpPr>
        <p:spPr>
          <a:xfrm>
            <a:off x="2438280" y="4876920"/>
            <a:ext cx="381240" cy="241200"/>
          </a:xfrm>
          <a:custGeom>
            <a:avLst/>
            <a:gdLst>
              <a:gd name="textAreaLeft" fmla="*/ 15480 w 381240"/>
              <a:gd name="textAreaRight" fmla="*/ 365760 w 38124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867280" y="2128680"/>
            <a:ext cx="312444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resulting formula 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gpa = 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 * 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create the new vari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0CF1-6CDF-4438-AFC6-CE36AD15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Computing Variables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54" name="Text Box 1027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028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1219320" y="4038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a section of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1220760" y="4724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AutoShape 1031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AutoShape 1032"/>
          <p:cNvSpPr/>
          <p:nvPr/>
        </p:nvSpPr>
        <p:spPr>
          <a:xfrm>
            <a:off x="1523880" y="411480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AutoShape 1033"/>
          <p:cNvSpPr/>
          <p:nvPr/>
        </p:nvSpPr>
        <p:spPr>
          <a:xfrm>
            <a:off x="1523880" y="4724280"/>
            <a:ext cx="4800600" cy="60984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9945" h="21600">
                <a:moveTo>
                  <a:pt x="0" y="0"/>
                </a:moveTo>
                <a:lnTo>
                  <a:pt x="169945" y="0"/>
                </a:lnTo>
                <a:lnTo>
                  <a:pt x="169945" y="21600"/>
                </a:lnTo>
                <a:lnTo>
                  <a:pt x="0" y="21600"/>
                </a:lnTo>
                <a:close/>
              </a:path>
              <a:path fill="lightenLess" w="169945" h="21600">
                <a:moveTo>
                  <a:pt x="0" y="0"/>
                </a:moveTo>
                <a:lnTo>
                  <a:pt x="169945" y="0"/>
                </a:lnTo>
                <a:lnTo>
                  <a:pt x="168546" y="1400"/>
                </a:lnTo>
                <a:lnTo>
                  <a:pt x="1400" y="1400"/>
                </a:lnTo>
                <a:close/>
              </a:path>
              <a:path fill="darken" w="169945" h="21600">
                <a:moveTo>
                  <a:pt x="169945" y="0"/>
                </a:moveTo>
                <a:lnTo>
                  <a:pt x="169945" y="21600"/>
                </a:lnTo>
                <a:lnTo>
                  <a:pt x="168546" y="20200"/>
                </a:lnTo>
                <a:lnTo>
                  <a:pt x="168546" y="1400"/>
                </a:lnTo>
                <a:close/>
              </a:path>
              <a:path fill="darkenLess" w="169945" h="21600">
                <a:moveTo>
                  <a:pt x="16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546" y="20200"/>
                </a:lnTo>
                <a:close/>
              </a:path>
              <a:path fill="lighten" w="16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C64-B315-46A2-871C-4C9B14CA5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09480" y="2208240"/>
            <a:ext cx="81536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ections of this tutorial explain how t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a new variable by assigning a value (setting it equal to zer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elective criteria to compute a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a new variable by using a formula (multiplying two variabl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1371600" y="4038480"/>
            <a:ext cx="5867280" cy="457200"/>
          </a:xfrm>
          <a:custGeom>
            <a:avLst/>
            <a:gdLst>
              <a:gd name="textAreaLeft" fmla="*/ 29520 w 5867280"/>
              <a:gd name="textAreaRight" fmla="*/ 5837760 w 5867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6993" h="21600">
                <a:moveTo>
                  <a:pt x="0" y="0"/>
                </a:moveTo>
                <a:lnTo>
                  <a:pt x="276993" y="0"/>
                </a:lnTo>
                <a:lnTo>
                  <a:pt x="276993" y="21600"/>
                </a:lnTo>
                <a:lnTo>
                  <a:pt x="0" y="21600"/>
                </a:lnTo>
                <a:close/>
              </a:path>
              <a:path fill="lightenLess" w="276993" h="21600">
                <a:moveTo>
                  <a:pt x="0" y="0"/>
                </a:moveTo>
                <a:lnTo>
                  <a:pt x="276993" y="0"/>
                </a:lnTo>
                <a:lnTo>
                  <a:pt x="275593" y="1400"/>
                </a:lnTo>
                <a:lnTo>
                  <a:pt x="1400" y="1400"/>
                </a:lnTo>
                <a:close/>
              </a:path>
              <a:path fill="darken" w="276993" h="21600">
                <a:moveTo>
                  <a:pt x="276993" y="0"/>
                </a:moveTo>
                <a:lnTo>
                  <a:pt x="276993" y="21600"/>
                </a:lnTo>
                <a:lnTo>
                  <a:pt x="275593" y="20200"/>
                </a:lnTo>
                <a:lnTo>
                  <a:pt x="275593" y="1400"/>
                </a:lnTo>
                <a:close/>
              </a:path>
              <a:path fill="darkenLess" w="276993" h="21600">
                <a:moveTo>
                  <a:pt x="27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593" y="20200"/>
                </a:lnTo>
                <a:close/>
              </a:path>
              <a:path fill="lighten" w="27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AutoShape 9">
            <a:hlinkClick r:id="rId2" action="ppaction://hlinksldjump"/>
          </p:cNvPr>
          <p:cNvSpPr/>
          <p:nvPr/>
        </p:nvSpPr>
        <p:spPr>
          <a:xfrm>
            <a:off x="1295280" y="4648320"/>
            <a:ext cx="6324840" cy="838080"/>
          </a:xfrm>
          <a:custGeom>
            <a:avLst/>
            <a:gdLst>
              <a:gd name="textAreaLeft" fmla="*/ 54000 w 6324840"/>
              <a:gd name="textAreaRight" fmla="*/ 6270840 w 6324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2951" h="21600">
                <a:moveTo>
                  <a:pt x="0" y="0"/>
                </a:moveTo>
                <a:lnTo>
                  <a:pt x="162951" y="0"/>
                </a:lnTo>
                <a:lnTo>
                  <a:pt x="162951" y="21600"/>
                </a:lnTo>
                <a:lnTo>
                  <a:pt x="0" y="21600"/>
                </a:lnTo>
                <a:close/>
              </a:path>
              <a:path fill="lightenLess" w="162951" h="21600">
                <a:moveTo>
                  <a:pt x="0" y="0"/>
                </a:moveTo>
                <a:lnTo>
                  <a:pt x="162951" y="0"/>
                </a:lnTo>
                <a:lnTo>
                  <a:pt x="161551" y="1400"/>
                </a:lnTo>
                <a:lnTo>
                  <a:pt x="1400" y="1400"/>
                </a:lnTo>
                <a:close/>
              </a:path>
              <a:path fill="darken" w="162951" h="21600">
                <a:moveTo>
                  <a:pt x="162951" y="0"/>
                </a:moveTo>
                <a:lnTo>
                  <a:pt x="162951" y="21600"/>
                </a:lnTo>
                <a:lnTo>
                  <a:pt x="161551" y="20200"/>
                </a:lnTo>
                <a:lnTo>
                  <a:pt x="161551" y="1400"/>
                </a:lnTo>
                <a:close/>
              </a:path>
              <a:path fill="darkenLess" w="162951" h="21600">
                <a:moveTo>
                  <a:pt x="162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551" y="20200"/>
                </a:lnTo>
                <a:close/>
              </a:path>
              <a:path fill="lighten" w="162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7">
            <a:hlinkClick r:id="rId3" action="ppaction://hlinksldjump"/>
          </p:cNvPr>
          <p:cNvSpPr/>
          <p:nvPr/>
        </p:nvSpPr>
        <p:spPr>
          <a:xfrm>
            <a:off x="1295280" y="2895480"/>
            <a:ext cx="6629400" cy="914400"/>
          </a:xfrm>
          <a:custGeom>
            <a:avLst/>
            <a:gdLst>
              <a:gd name="textAreaLeft" fmla="*/ 59040 w 6629400"/>
              <a:gd name="textAreaRight" fmla="*/ 6570360 w 6629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56547" h="21600">
                <a:moveTo>
                  <a:pt x="0" y="0"/>
                </a:moveTo>
                <a:lnTo>
                  <a:pt x="156547" y="0"/>
                </a:lnTo>
                <a:lnTo>
                  <a:pt x="156547" y="21600"/>
                </a:lnTo>
                <a:lnTo>
                  <a:pt x="0" y="21600"/>
                </a:lnTo>
                <a:close/>
              </a:path>
              <a:path fill="lightenLess" w="156547" h="21600">
                <a:moveTo>
                  <a:pt x="0" y="0"/>
                </a:moveTo>
                <a:lnTo>
                  <a:pt x="156547" y="0"/>
                </a:lnTo>
                <a:lnTo>
                  <a:pt x="155147" y="1400"/>
                </a:lnTo>
                <a:lnTo>
                  <a:pt x="1400" y="1400"/>
                </a:lnTo>
                <a:close/>
              </a:path>
              <a:path fill="darken" w="156547" h="21600">
                <a:moveTo>
                  <a:pt x="156547" y="0"/>
                </a:moveTo>
                <a:lnTo>
                  <a:pt x="156547" y="21600"/>
                </a:lnTo>
                <a:lnTo>
                  <a:pt x="155147" y="20200"/>
                </a:lnTo>
                <a:lnTo>
                  <a:pt x="155147" y="1400"/>
                </a:lnTo>
                <a:close/>
              </a:path>
              <a:path fill="darkenLess" w="156547" h="21600">
                <a:moveTo>
                  <a:pt x="15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147" y="20200"/>
                </a:lnTo>
                <a:close/>
              </a:path>
              <a:path fill="lighten" w="15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AB4F-AC30-49D3-8167-FC7DC50D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055960"/>
            <a:ext cx="8153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9480" y="2055960"/>
            <a:ext cx="8153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09480" y="2741760"/>
            <a:ext cx="8153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a new variable,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ith a value of z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09480" y="3429000"/>
            <a:ext cx="8153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s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or fe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82760" y="4114800"/>
            <a:ext cx="8127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a new (dummy) variable,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by multiply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the existing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otal cumulative undergraduate gp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3CE-66FD-4784-8F25-B631DD39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8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AB83-F72E-4DE9-8B3E-CA9BA891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6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0525-EB5F-43A1-87EB-6AAFB8548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7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094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</cp:keywords>
  <dc:language>en-US</dc:language>
  <cp:lastModifiedBy>Windows User</cp:lastModifiedBy>
  <dcterms:modified xsi:type="dcterms:W3CDTF">2011-12-05T18:37:31Z</dcterms:modified>
  <cp:revision>192</cp:revision>
  <dc:subject>SPSS</dc:subject>
  <dc:title>SPSS Computing New Variables Tutorial</dc:title>
</cp:coreProperties>
</file>